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C90-96EE-4C95-948C-C5216D3C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A48-2246-4563-8CF1-A592B4DB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52D-41FE-4272-B261-611B049D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DF0-A370-4ABA-A3BE-974CC37F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A4A-5E0D-46EC-95BB-16A9E602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E04-5DDE-4AD6-B7A0-F8B4ECD3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771-D721-4767-A9F5-B92BA1F1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D6B-C3BC-4052-8EC6-028DDA28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142-120E-4FAD-859B-EBB8FDD7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BEB-71BD-4784-8646-B481584C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7F1-D6C6-4072-A899-61C5B0E9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8A5-E608-42A6-B205-3FB7CC90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CE8A-F8D8-4A72-8199-8C8DAABA0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1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, Median and M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6040" y="2068560"/>
            <a:ext cx="35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1: Finding the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6520" y="2046240"/>
            <a:ext cx="134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4040" y="220968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e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08160" y="3059280"/>
            <a:ext cx="70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e middle number when the numbers are in numerical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9120" y="3897360"/>
            <a:ext cx="39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e number that occurs the 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38188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315200" cy="65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86600" y="182880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22960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381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229600" cy="13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2743200"/>
            <a:ext cx="3581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2743200"/>
            <a:ext cx="3429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2000" y="34452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Finding the median and th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6201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0010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00:09:53Z</dcterms:created>
  <dc:creator>Graham</dc:creator>
  <dc:description/>
  <dc:language>en-US</dc:language>
  <cp:lastModifiedBy>Graham</cp:lastModifiedBy>
  <dcterms:modified xsi:type="dcterms:W3CDTF">2011-08-31T00:09:58Z</dcterms:modified>
  <cp:revision>1</cp:revision>
  <dc:subject/>
  <dc:title>Lesson 1.10 Mean, Median and Mode</dc:title>
</cp:coreProperties>
</file>